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1C69-C281-44C5-8B56-3465EC4AE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8EEF-404E-43B4-9744-D92E55915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DA42-1AFA-4AAA-8FD3-260616064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7946-9A0B-4134-BCE8-87FCB9DD5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4A58-D647-4DAF-B7DE-2CB9CE6C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34A1-6AA1-49E2-A81F-8ED006539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5CD1-6E91-43FA-8537-8F2645BA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269A-8C9B-43A5-9951-C2868D55D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679B-F6C2-45EC-9C56-B5CBB8E2D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C379-9545-41BB-B484-D96323F0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8894-4EE8-43FD-8ED5-FDD7E108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22E5-EE94-4B0E-8A22-D7ACEB66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6A71A-1067-441C-B090-8D6134F5CE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75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76360" y="1341360"/>
            <a:ext cx="604836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What </a:t>
            </a:r>
            <a:endParaRPr b="0" lang="en-US" sz="6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re they doing</a:t>
            </a:r>
            <a:endParaRPr b="0" lang="en-US" sz="6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050920" y="1501920"/>
            <a:ext cx="554544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32000" y="1068480"/>
            <a:ext cx="6840360" cy="44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671920" y="907920"/>
            <a:ext cx="40464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1819440"/>
            <a:ext cx="817236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124000" y="888840"/>
            <a:ext cx="576108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662200" y="0"/>
            <a:ext cx="5391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908000" y="1581120"/>
            <a:ext cx="561672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8208720" cy="43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00000" y="1397160"/>
            <a:ext cx="7488360" cy="39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19280" y="725400"/>
            <a:ext cx="640872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71640" y="390600"/>
            <a:ext cx="741672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16000" y="1184400"/>
            <a:ext cx="6408720" cy="48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71640" y="409680"/>
            <a:ext cx="7345440" cy="59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979640" y="804960"/>
            <a:ext cx="590544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332000" y="619200"/>
            <a:ext cx="6335640" cy="57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68360" y="1517760"/>
            <a:ext cx="4751640" cy="37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752560" y="620640"/>
            <a:ext cx="42674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09:01:46Z</dcterms:created>
  <dc:creator>I.E.S. FEDERICO GARCIA LORCA</dc:creator>
  <dc:description/>
  <dc:language>en-US</dc:language>
  <cp:lastModifiedBy>I.E.S. FEDERICO GARCIA LORCA</cp:lastModifiedBy>
  <dcterms:modified xsi:type="dcterms:W3CDTF">2009-03-11T09:22:42Z</dcterms:modified>
  <cp:revision>3</cp:revision>
  <dc:subject/>
  <dc:title>Diapositiva 1</dc:title>
</cp:coreProperties>
</file>